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6.png" ContentType="image/png"/>
  <Override PartName="/ppt/media/image7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2EDA-8D27-49D1-AB40-8B7580C6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B547-762C-4841-BDA2-8A76FAF8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DBB6-B239-4E47-888F-47ABC587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89FF-DC1F-4103-BEAB-13268713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EF47-D685-4F68-A4F4-1BEC1BF2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94B6-2AB7-49EA-875A-0B32F9AF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2E10-8DBA-498E-9346-A2893B71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7A94-32DF-430E-A2A3-DBDF03C9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0418-2C86-41CD-BBB6-730188D8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DA3F-7702-4577-83F4-99D8E69F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81F1-EC91-4183-93FD-DE31A82E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A9F-E650-4F9C-BE0A-22CE578E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56E7-54E8-4FE9-A1BD-CE3FDA40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55BF-2AFF-4E29-9EEB-C4DDC253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56B8-1386-4C87-AC96-BFDE6880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7E7C-D4A3-4911-9FF2-40996E9F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28B2-4BEF-4C5B-95BE-A8830810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6DC2-9C87-4E23-873C-A36A019A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4FF1-CE8A-406E-B541-FF8AA043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08AE-AE19-4D75-B8E2-46463958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0C38-E4FD-49EE-8180-5780A4F4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F339-D9E4-4E86-8E4C-FB62670C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2A5F-1333-4AF5-85E9-C8C0BA8E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45FB-9AB8-4E16-A920-5E59DFDF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3CC9F3-FBC9-465A-9F66-DE8A8841D2BC}" type="datetime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6F1C7B-50BE-4302-963C-A84184FF0177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7680" y="1981080"/>
            <a:ext cx="739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52A077-FC73-4711-87C0-0D10B2FBC443}" type="datetime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2BCC40-2C26-43DE-B711-E6AD2AA0167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405160"/>
            <a:ext cx="7772400" cy="762120"/>
          </a:xfrm>
          <a:prstGeom prst="rect">
            <a:avLst/>
          </a:prstGeom>
          <a:solidFill>
            <a:srgbClr val="aed3ff"/>
          </a:solidFill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HOKING</a:t>
            </a: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555920" y="3768840"/>
            <a:ext cx="6032160" cy="1590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A LIFE THREATENING EMERGENCY!!!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3178080" y="5783400"/>
            <a:ext cx="291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8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2075040" y="5783400"/>
            <a:ext cx="442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By: Maria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Cornell</a:t>
            </a:r>
            <a:endParaRPr b="0" lang="en-US" sz="2000" spc="-1" strike="noStrike">
              <a:solidFill>
                <a:srgbClr val="ff8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04000" y="506520"/>
            <a:ext cx="1568520" cy="1898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614988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57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469880"/>
            <a:ext cx="833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IN LIFE THREATENING EMERGENCIES, IMMEDIATE FIRST AID IS ESSENTIAL!</a:t>
            </a:r>
            <a:endParaRPr b="0" lang="en-US" sz="2800" spc="-1" strike="noStrike">
              <a:solidFill>
                <a:srgbClr val="ff8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8051760" y="547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8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103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8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97160" y="2592360"/>
            <a:ext cx="837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Learning basic first-aid procedures for choking and cardiopulmonary </a:t>
            </a:r>
            <a:endParaRPr b="0" lang="en-US" sz="20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resuscitation will help you deal with medical emergencies and save lives.</a:t>
            </a:r>
            <a:endParaRPr b="0" lang="en-US" sz="2000" spc="-1" strike="noStrike">
              <a:solidFill>
                <a:srgbClr val="ff8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506520" y="3294000"/>
            <a:ext cx="828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It is wise to know the universal sign of choking. A choking person</a:t>
            </a:r>
            <a:endParaRPr b="0" lang="en-US" sz="20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who cannot talk will grab his or her throat. Other signs of choking include problems with breathing and turning reddish, then bluish. </a:t>
            </a:r>
            <a:endParaRPr b="0" lang="en-US" sz="20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The person may also faint.The hand will usually be on the throat </a:t>
            </a:r>
            <a:endParaRPr b="0" lang="en-US" sz="20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with the finger and thumb extended.</a:t>
            </a:r>
            <a:endParaRPr b="0" lang="en-US" sz="2000" spc="-1" strike="noStrike">
              <a:solidFill>
                <a:srgbClr val="ff8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3565440" y="2462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8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043520" y="4592520"/>
            <a:ext cx="253332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0120" y="1846440"/>
            <a:ext cx="707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8000"/>
                </a:solidFill>
                <a:latin typeface="Arial"/>
              </a:rPr>
              <a:t>FIRST AID FOR A CHOKING ADULT</a:t>
            </a:r>
            <a:endParaRPr b="0" lang="en-US" sz="3200" spc="-1" strike="noStrike">
              <a:solidFill>
                <a:srgbClr val="ff8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1252440" y="2616120"/>
            <a:ext cx="70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</a:rPr>
              <a:t>-Stand behind the victim, sliding your arms under his or her armpits</a:t>
            </a:r>
            <a:endParaRPr b="0" lang="en-US" sz="18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</a:rPr>
              <a:t>and wrapping your arms around his or her waist. Put the thumb side</a:t>
            </a:r>
            <a:endParaRPr b="0" lang="en-US" sz="18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</a:rPr>
              <a:t>of your wrist against the midline of the person’s abdomen, between </a:t>
            </a:r>
            <a:endParaRPr b="0" lang="en-US" sz="18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</a:rPr>
              <a:t>the waist and the rib cage. </a:t>
            </a:r>
            <a:endParaRPr b="0" lang="en-US" sz="1800" spc="-1" strike="noStrike">
              <a:solidFill>
                <a:srgbClr val="ff8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1152000" y="4049640"/>
            <a:ext cx="71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</a:rPr>
              <a:t>-Grasp your fist with your other hand and apply pressure inward and</a:t>
            </a:r>
            <a:endParaRPr b="0" lang="en-US" sz="18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</a:rPr>
              <a:t>Up toward the person’s diaphragm in one smooth movement. Deliver</a:t>
            </a:r>
            <a:endParaRPr b="0" lang="en-US" sz="18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</a:rPr>
              <a:t>Up to five rapid inward thrusts up toward the diaphragm. Once the </a:t>
            </a:r>
            <a:endParaRPr b="0" lang="en-US" sz="18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</a:rPr>
              <a:t>Object is dislodged, give rescue breathing if needed. </a:t>
            </a:r>
            <a:endParaRPr b="0" lang="en-US" sz="1800" spc="-1" strike="noStrike">
              <a:solidFill>
                <a:srgbClr val="ff8000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219800" y="290520"/>
            <a:ext cx="1555920" cy="1555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0" y="2968560"/>
            <a:ext cx="1244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56320" y="1549440"/>
            <a:ext cx="713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FIRST AID FOR CHOKING INFANTS AND </a:t>
            </a:r>
            <a:endParaRPr b="0" lang="en-US" sz="28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YOUNG CHILDREN</a:t>
            </a:r>
            <a:endParaRPr b="0" lang="en-US" sz="2800" spc="-1" strike="noStrike">
              <a:solidFill>
                <a:srgbClr val="ff8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622440" y="2786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8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876240" y="2495520"/>
            <a:ext cx="6902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-Hold the infant or young child face down on your forearm with the head lower than the trunk. You must support the patients head by placing a hand around the lower jaw and chest. Give the victim four</a:t>
            </a:r>
            <a:endParaRPr b="0" lang="en-US" sz="16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Blows with the heel of your hand to the spinal area between the </a:t>
            </a:r>
            <a:endParaRPr b="0" lang="en-US" sz="16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Victim’s shoulder blades.</a:t>
            </a:r>
            <a:endParaRPr b="0" lang="en-US" sz="1600" spc="-1" strike="noStrike">
              <a:solidFill>
                <a:srgbClr val="ff8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801720" y="3809880"/>
            <a:ext cx="7691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-Turn the victim face up on your thigh, making sure that you provide adequate </a:t>
            </a:r>
            <a:endParaRPr b="0" lang="en-US" sz="16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support for the head. Ensure that the head is lower than the trunk. Give four slow,</a:t>
            </a:r>
            <a:endParaRPr b="0" lang="en-US" sz="16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distinct chest thrusts by pressing two or three fingers into the middle of the victim’s </a:t>
            </a:r>
            <a:endParaRPr b="0" lang="en-US" sz="16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chest, with the index finger placed just below an imaginary line drawn directly </a:t>
            </a:r>
            <a:endParaRPr b="0" lang="en-US" sz="1600" spc="-1" strike="noStrike">
              <a:solidFill>
                <a:srgbClr val="ff8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between their nipples.</a:t>
            </a:r>
            <a:endParaRPr b="0" lang="en-US" sz="1600" spc="-1" strike="noStrike">
              <a:solidFill>
                <a:srgbClr val="ff8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48640" y="324000"/>
            <a:ext cx="1858680" cy="1231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2495520"/>
            <a:ext cx="87624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12:54:02Z</dcterms:created>
  <dc:creator>kms kms</dc:creator>
  <dc:description/>
  <dc:language>en-US</dc:language>
  <cp:lastModifiedBy>Kraybill Campus LMS</cp:lastModifiedBy>
  <dcterms:modified xsi:type="dcterms:W3CDTF">2011-05-26T16:07:49Z</dcterms:modified>
  <cp:revision>11</cp:revision>
  <dc:subject/>
  <dc:title>CHOKING  </dc:title>
</cp:coreProperties>
</file>